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5AEA-9727-47F6-AE59-1ADE0EE1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986-10D0-4799-B9F9-1675D864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76E-B081-4245-8996-96EE1D5F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791-03D8-40B0-86B5-AFA67A49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C62D6-3A13-4035-9F57-5DCF19E8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71948-76CD-4C9A-A1D6-6319760E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F570D-649D-488D-92B0-266003B7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338F8-579C-4808-975C-19295638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F9CEB-A915-4372-BBD1-1D05C871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E3726-90E1-4D5F-8BDE-08921244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AF1DD-DC98-49A4-B79A-D87B624A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A00-4459-4199-97B4-BF0C2ADD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4CB11-480F-4836-91EC-79BB7862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3228F-2C64-4A95-A605-FE125469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14633-7ACB-4084-9C6E-AC7D77C9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0DEF4-8637-48CA-B9CD-46D8E696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3E441-378E-4FE0-9331-7C58C1CB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1E53-7118-48B8-A03C-1F638C3A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E5D-D88A-46EA-9D7D-16E12895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1C3-E333-456C-A307-8CB594F7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B45-D6F8-4BC4-9491-3634CF83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D22-2BF9-43EE-98F0-551276C8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CF1-C0FB-4563-843E-97957BA2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339-F585-4DE2-B523-8B885922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A684-1DBC-4735-A078-A53B11B42C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AA2A-3322-41D9-90B1-D31968FE34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Kar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is Hallowe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yara had no idea when she woke up that morning everything in her life was about to change on October 30 Hallow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5120" y="3352680"/>
            <a:ext cx="467172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she went downstairs to eat breakfast no one there she looked all over the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kitchen, my mom’s bedroom, my sister’s bedroom  no one the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looked outside no one there she looked for hours and hours no one there it was night thunder c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yara did not here any children going out trick or treating she felt scared the windows started to open by there self. A ghost touched here Kyara scream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560" y="3846600"/>
            <a:ext cx="4559400" cy="182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248520" y="4343400"/>
            <a:ext cx="192384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yara went to bed scared but then she realized it was just a dream she went down stairs to hug everyone Kyara was so happy to see everyone. The End!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3043080" cy="1917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4559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6:11:26Z</dcterms:created>
  <dc:creator>student</dc:creator>
  <dc:description/>
  <dc:language>en-US</dc:language>
  <cp:lastModifiedBy>student</cp:lastModifiedBy>
  <dcterms:modified xsi:type="dcterms:W3CDTF">2010-11-01T16:39:04Z</dcterms:modified>
  <cp:revision>7</cp:revision>
  <dc:subject/>
  <dc:title>Kyara</dc:title>
</cp:coreProperties>
</file>